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E2E-862E-4B6A-A504-77EE7AA6F2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OVAs showed a significant main effect of angle of rotation on reaction time for both the youn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12, 40.29) = 15.56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05] and the older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57) = 14.36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05] participan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er adults: linear slope with an incline of 3.3 ms per degree of rotation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.9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er adult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ear slope with an incline of 8.8 ms per degree of rotation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.8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for both the younger and the older participants the main effect of angle of rotation reflects the hallma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ental rotation, namely a linear increase in reaction time with increasing angular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, however, reveal whether the two types of stimuli are rotated differentl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mental rotation performance are exposed by observing differences in the linear slope for high-decompo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w-decomposability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whether these slopes differ from each other the interactions  between stimulus decomposability and angle of rotation need to be exa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action between stimulus decomposability and angle of rotation was significant only for the younger adults,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57) = 4.09,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0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ear x Linear contrast showed that the rotation slope for the high decomposability stimuli was steeper than the slope for the low decomposability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ecomp.: a linear slope of 4.01 ms per angle of rotation with an 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.8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comp.: a linear slope which rises at a rate of 2.63 ms per angle of rotation with an 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.93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igh-decomposability condition, the individual image components were visually very salient. This presumably led the younger participants to represent and process these images in a piecemeal fash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in the low-decomposability condition the individual image components were not visually salient, causing the younger participants to represent and process these images holis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follows that the processing strategy the older adults employed is likely to be hol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follows that information presented to older adults should be adapted to their holistic processing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umeration of quantitative differences is useful in identifying potential areas of cognitive dec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studies which focus on quantitative age-related differences in cognition fail to capture potential compensato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 error percentages (and associated standard errors) as a function of angular distance for the younger and older particip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a significant main effect of angle of rotation on error percentage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114) = 5.142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05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contrasts revealed that the participants made significantly more errors when the images were presented at angular disparities of 70 degrees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4.89%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58%) than when they were presented at angular disparities of 35 degrees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2.29%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59%)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38) = 7.251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6.796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.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 two repeated contrasts were not significant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.0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well documented that a variety of cognitive functions decline wit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lying supposition inherent in these studies is that older adults employ the same processing operations as younger adults, albeit in a less efficient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nd similar findings suggest that strategic processes can compensate for age-related functional decline (Reuter-Lorenz &amp; Lustig, 20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iecemeal strategy involves a mental image representation that consists of a collection of connected segments, each of which is separately rot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holistic strategy involves an image that is represented and processes as a single undifferentiated unit (Kosslyn, 198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: A highly salient perceptual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r to parse image into its individual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qualitative differences in mental rotation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slope: The steepness with which reaction times increase as a function of increasing angular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to note: Differences in initial encoding of stimulus properties should lead to differences in the intercept of the reaction time slope. These differences are a constant and should not be affected by angle of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ded into sections through the use of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trial commenced with the word “Ready” appearing on the computer sc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s press spacebar to initiate the t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right image is then displa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 presses space bar to conti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ond image remains on screen until participants have made their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line drawings of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vers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ded into sections through the use of colour (high-decomposability imag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al line draw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different trials distorted versions were created by removing, adding or altering individual image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angles of rotation (1) upright, (2) 35 degrees (3) 75 degrees and (4) 105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CFA-AB29-4C48-915E-7BD23718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FB9-796E-4428-9916-EB0D37F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D2A-159B-4122-B988-A0E0789A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60B-95D1-4FEC-B886-B88D1F75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E3F-B780-4EAF-94DA-712207A6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5A01-D529-44AB-BAF9-AE07D11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209-8B98-4327-BBE6-883F046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634-C998-4787-A924-CD49D48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82C-90AA-475A-B344-DC1939A2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8258-DA0B-4B52-BFAB-CDE28C88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831A-465F-4278-8125-532A2B2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662-AAC0-4A7B-A290-E1BEC3B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D6C2-F847-4E8E-B7C9-5B1BED5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6CF2-C5BB-437F-B3D1-E4190D6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B51B-0E5B-4A9C-B67B-443ABA9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12E4-77C3-4544-905C-6E8A09D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4198-6F0A-4813-8A61-70A7957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388-0314-49C2-AD15-756F362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E9D-1D06-43CE-9CA2-170F813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243-A6FD-493B-A12D-2021EB68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FEB-CE7C-44EA-A357-5926882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EAE-F19D-4C1F-8EB1-1EB78F5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908-A9A2-49E8-B08A-B877970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CF8-F74A-4BC0-9EF8-9A88AF1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DA4E-51E2-4F02-B77F-195E9EECF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7A2-8E64-4E48-BC61-E22223E15F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ffect of manipulating image decomposability on mental rotation performance in older and younger adul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ula Engelbrecht &amp; Itiel D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ime data was analysed separately for younger and older adults using ANO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 decomposability (high and low) and angle of rotation (0, 35, 70 and 105 degrees) were the two within subjects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younger adults responded faster to high decomp.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1485.19 ms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125.49 ms) than to low decomp.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1551.04 ms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123.84 ms)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significant difference for the older adu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in effect reflects initial encoding not mental rotation perform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r ad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ces in rotation slopes for high and low decomposability images suggests that these are processed different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vious research associates shallow rotation slopes with holistic processing and steep rotation slopes with piecemeal process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performance did not vary as a function of stimulus decompos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that they employed the same processing strategy to rotate both high and low decomposability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vious study found that older adults prefer a holistic processing strategy (Dror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istic processing is less resource intensive (Logan, 198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 suggest that older adults favour a holistic processing style regardless of image decompo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processing strategies appear to be less affected by environmental mani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qualitative changes deepens our understanding of the aging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65240" y="1685880"/>
            <a:ext cx="5213160" cy="3486240"/>
            <a:chOff x="1965240" y="1685880"/>
            <a:chExt cx="5213160" cy="3486240"/>
          </a:xfrm>
        </p:grpSpPr>
        <p:grpSp>
          <p:nvGrpSpPr>
            <p:cNvPr id="137" name=""/>
            <p:cNvGrpSpPr/>
            <p:nvPr/>
          </p:nvGrpSpPr>
          <p:grpSpPr>
            <a:xfrm>
              <a:off x="1969920" y="1690560"/>
              <a:ext cx="5203800" cy="3476520"/>
              <a:chOff x="1969920" y="1690560"/>
              <a:chExt cx="5203800" cy="34765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969920" y="1690560"/>
                <a:ext cx="777960" cy="549360"/>
                <a:chOff x="1969920" y="1690560"/>
                <a:chExt cx="777960" cy="549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038320" y="1690560"/>
                  <a:ext cx="6411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ng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969920" y="1690560"/>
                  <a:ext cx="7779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747880" y="1690560"/>
                <a:ext cx="1547640" cy="549360"/>
                <a:chOff x="2747880" y="1690560"/>
                <a:chExt cx="1547640" cy="549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815920" y="1690560"/>
                  <a:ext cx="14115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747880" y="1690560"/>
                  <a:ext cx="15476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295520" y="1690560"/>
                <a:ext cx="1449360" cy="549360"/>
                <a:chOff x="4295520" y="1690560"/>
                <a:chExt cx="1449360" cy="5493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63920" y="1690560"/>
                  <a:ext cx="1312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Younger Adul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95520" y="1690560"/>
                  <a:ext cx="1449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44880" y="1690560"/>
                <a:ext cx="1428840" cy="549360"/>
                <a:chOff x="5744880" y="1690560"/>
                <a:chExt cx="1428840" cy="549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13280" y="1690560"/>
                  <a:ext cx="12920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lder Adul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44880" y="1690560"/>
                  <a:ext cx="14288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969920" y="2239920"/>
                <a:ext cx="777960" cy="731880"/>
                <a:chOff x="1969920" y="2239920"/>
                <a:chExt cx="777960" cy="731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038320" y="2239920"/>
                  <a:ext cx="6411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69920" y="2239920"/>
                  <a:ext cx="7779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747880" y="2239920"/>
                <a:ext cx="1547640" cy="731880"/>
                <a:chOff x="2747880" y="2239920"/>
                <a:chExt cx="1547640" cy="731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15920" y="2239920"/>
                  <a:ext cx="14115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1.18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5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747880" y="2239920"/>
                  <a:ext cx="15476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295520" y="2239920"/>
                <a:ext cx="1449360" cy="731880"/>
                <a:chOff x="4295520" y="2239920"/>
                <a:chExt cx="1449360" cy="731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363920" y="2239920"/>
                  <a:ext cx="1312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1.89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1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295520" y="2239920"/>
                  <a:ext cx="14493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744880" y="2239920"/>
                <a:ext cx="1428840" cy="731880"/>
                <a:chOff x="5744880" y="2239920"/>
                <a:chExt cx="1428840" cy="7318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813280" y="2239920"/>
                  <a:ext cx="129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.5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12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44880" y="2239920"/>
                  <a:ext cx="1428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969920" y="2971800"/>
                <a:ext cx="777960" cy="731880"/>
                <a:chOff x="1969920" y="2971800"/>
                <a:chExt cx="777960" cy="731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38320" y="2971800"/>
                  <a:ext cx="6411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969920" y="2971800"/>
                  <a:ext cx="7779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747880" y="2971800"/>
                <a:ext cx="1547640" cy="731880"/>
                <a:chOff x="2747880" y="2971800"/>
                <a:chExt cx="1547640" cy="731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815920" y="2971800"/>
                  <a:ext cx="14115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2.29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1.6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47880" y="2971800"/>
                  <a:ext cx="15476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5520" y="2971800"/>
                <a:ext cx="1449360" cy="731880"/>
                <a:chOff x="4295520" y="2971800"/>
                <a:chExt cx="1449360" cy="731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363920" y="2971800"/>
                  <a:ext cx="1312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3.3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= 2.3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5520" y="2971800"/>
                  <a:ext cx="14493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744880" y="2971800"/>
                <a:ext cx="1428840" cy="731880"/>
                <a:chOff x="5744880" y="2971800"/>
                <a:chExt cx="1428840" cy="731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13280" y="2971800"/>
                  <a:ext cx="129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1.3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3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44880" y="2971800"/>
                  <a:ext cx="1428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9920" y="3703680"/>
                <a:ext cx="777960" cy="731520"/>
                <a:chOff x="1969920" y="3703680"/>
                <a:chExt cx="777960" cy="7315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038320" y="3703680"/>
                  <a:ext cx="641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69920" y="3703680"/>
                  <a:ext cx="7779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747880" y="3703680"/>
                <a:ext cx="1547640" cy="731520"/>
                <a:chOff x="2747880" y="3703680"/>
                <a:chExt cx="1547640" cy="731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815920" y="3703680"/>
                  <a:ext cx="1411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4.89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=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6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747880" y="3703680"/>
                  <a:ext cx="15476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295520" y="3703680"/>
                <a:ext cx="1449360" cy="731520"/>
                <a:chOff x="4295520" y="3703680"/>
                <a:chExt cx="1449360" cy="731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363920" y="3703680"/>
                  <a:ext cx="1312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7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2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95520" y="3703680"/>
                  <a:ext cx="14493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744880" y="3703680"/>
                <a:ext cx="1428840" cy="731520"/>
                <a:chOff x="5744880" y="3703680"/>
                <a:chExt cx="1428840" cy="7315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813280" y="3703680"/>
                  <a:ext cx="129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2.8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2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44880" y="3703680"/>
                  <a:ext cx="14288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969920" y="4435200"/>
                <a:ext cx="777960" cy="731880"/>
                <a:chOff x="1969920" y="4435200"/>
                <a:chExt cx="777960" cy="731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038320" y="4435200"/>
                  <a:ext cx="6411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69920" y="4435200"/>
                  <a:ext cx="7779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747880" y="4435200"/>
                <a:ext cx="1547640" cy="731880"/>
                <a:chOff x="2747880" y="4435200"/>
                <a:chExt cx="1547640" cy="7318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815920" y="4435200"/>
                  <a:ext cx="141156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4.71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=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9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747880" y="4435200"/>
                  <a:ext cx="15476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295520" y="4435200"/>
                <a:ext cx="1449360" cy="731880"/>
                <a:chOff x="4295520" y="4435200"/>
                <a:chExt cx="1449360" cy="731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363920" y="4435200"/>
                  <a:ext cx="1312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6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295520" y="4435200"/>
                  <a:ext cx="14493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744880" y="4435200"/>
                <a:ext cx="1428840" cy="731880"/>
                <a:chOff x="5744880" y="4435200"/>
                <a:chExt cx="1428840" cy="73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813280" y="4435200"/>
                  <a:ext cx="129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3.4%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= 2.6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744880" y="4435200"/>
                  <a:ext cx="1428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1965240" y="1685880"/>
              <a:ext cx="5213160" cy="3486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ariety of cognitive functions have been found to decline with 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emory (e.g. Park et al., 19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easoning (e.g. Gilinsky &amp; Jud, 19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patial-visualisation ability (e.g. Salthouse et al., 19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lying assumption: Younger and older adults use the same processing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is assumption hold true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Neuroimaging stud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o age-related difference in memory for visual sce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-related prefrontal overactivation and underactivation in the medial temporal lobe (Gutchess et al., 2005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trategic processes can compensate for age-related functional declin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tative age-related differences in the way in which information is proc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tative age-related differences have also been found in mental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al rotation paradigm (Dror et al., 2005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nger adults employ a piecemeal strateg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lder adults employ a holistic strateg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: To investigate the boundary conditions of these age-related dif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re they fixed and inflexib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decomposability was manipulated through the use of co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decomposability: Image segments were highlighted with colou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w decomposability: line-drawing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e: High decomposability manipulation facilitates piecemeal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rotation slope reflect qualitative differences in the underlying mental rotation process (e.g. Folk &amp; Luce, 1987; Dror et al., 200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mage decomposability affects mental rotation then this should be reflected in differing rotation slopes for high and low decomposability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rotated at the same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20 older adults (12 females) with a mean age of 76 years (SD = 5.2 year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20 younger adults (15 females) with a mean age of 26 years (SD = 3.4 year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5103" t="3834" r="1276" b="47154"/>
          <a:stretch/>
        </p:blipFill>
        <p:spPr>
          <a:xfrm>
            <a:off x="1403280" y="1268280"/>
            <a:ext cx="6697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3:21:28Z</dcterms:created>
  <dc:creator> Matt Billings</dc:creator>
  <dc:description/>
  <dc:language>en-US</dc:language>
  <cp:lastModifiedBy>mr-ed</cp:lastModifiedBy>
  <dcterms:modified xsi:type="dcterms:W3CDTF">2007-08-19T10:53:25Z</dcterms:modified>
  <cp:revision>17</cp:revision>
  <dc:subject/>
  <dc:title>The use of CMC in mediation</dc:title>
</cp:coreProperties>
</file>